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1031-CFF5-4B1A-9DAE-0DF4EE3EC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919-8C78-407B-B49C-1F98391B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C471-8D8B-4F82-9ECF-3172CB78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0FF-6BF3-4C37-9577-7B4BFCD3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0D2-5D7B-45CD-A748-F9B9616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123-6483-43BA-99EC-21D18775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D478-2376-4874-B5B5-852FA3E8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9391-D291-4C75-A09A-08B7C85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7DD6-6918-42D0-B2D5-13D998BC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8976-B747-47D6-B424-52F2C4A2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705-F1FF-43DE-A536-52CED55E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149A-C6D7-4EA2-91B6-8A0854B9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4831-39C0-4691-A1AF-4CF5C144E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aso de esp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ñol 5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cciones 6 a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d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djetivos in Spanish are describing words just like in Engli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ome of the adjetivos you have learned ar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on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telig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úp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fí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or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ub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Los adjetivos y la concorda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jectives in Spanish must MATCH the noun they are describing. Therefore males or masculine objects will be described with adjectives ending in O or OS (plural). Females or femenine objects will be described with adjectives ending in A or 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: La casa es muy boni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El hombre es r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Los libros son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jectives that end in a consonant or another vowel DO NOT CHANGE, but DO BECOME PLURAL BY ADDING S or ES IF NECESS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 La casa es grande. Las casas son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 La profesora es inteligente. Los estudiantes son intel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lacement of Adjectives in Spanis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English, the correct placement of adjectives is BEFORE the no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 Spanish, the correct placement of adjectives is AFTER the no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: English….a big house…Spanish….Una casa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….The fast cars….Spanish…Los autos rápid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ómo se cambia una frase al neg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st like in English, all Spanish sentences contain these two parts of speech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he natural order of an affirmative sentence in Spanish is Subject then 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ample….Juan bai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ses Negati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o change a sentence from the affirmative to the negative, simply place NO in front of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f the subject is stated, it goes between the subject and the verb. If not, it simply goes before the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sotros escuchamos a la prof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sotros no escuchamos a la profeso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Canto a la c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….No canto a la can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ses a Pregunt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hanging statements to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 we´ve seen, the normal pattern of a statement in Spanish is Subject followed by Ver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 change a statement into a question, simply REVERSE the order…and add the inverted question mark and regular question ma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 Juan habla el español muy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¿Habla juan el español muy bi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Tú trabajas todos los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¿Trabajas tú todos los dí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El doctor es muy intelig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…..Es muy inteligente el do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Nú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e spelling of numbers in Spanish follow certain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 to 10…..careful of 6…changes English rule of I before E except after C. (seis). 7 does NOT change the rule! (sie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 does NOT end in S! (diez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 to 19…..compound words that combine 10 (with the Z changed to CI) and the ONES numb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.17…..diecisiete. ETC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6 has accent….diecisé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0….like 6 changes I before E rul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1 to 29….like 16 to 19….compound words that combine 20 (with the final e changed to an i) and the ONES number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….28…..veintio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2 and 26 have an accent….veintidós…veintisé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0´s…begin new rule of separating the tens number and the ones numb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áctica con los num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ad the following series of numbers aloud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0 24 25 6 8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6 9 20 2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14 13 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3 10 0 9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7 16 7 4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Verbos de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bs that are called ER verbs are designated as such because of their last two letters, the same as AR ver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e common ER verbs you may have been introduced to last year w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e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mpr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po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jugación de los verbos 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jugating ER verbs is done in the SAME way we learned AR v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have one of the 6 subject pronoun groups and match them to one of 6 possible new endings which will replace the 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Just like AR verbs, the STEM will stay unchanged, and only the ending will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áctica de conjugación con verbos de 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 (apr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re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los (v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e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sotros (le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e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ú (be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e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1:39:54Z</dcterms:created>
  <dc:creator>Heidi Peckens</dc:creator>
  <dc:description/>
  <dc:language>en-US</dc:language>
  <cp:lastModifiedBy>Heidi Peckens</cp:lastModifiedBy>
  <dcterms:modified xsi:type="dcterms:W3CDTF">2009-08-18T02:39:34Z</dcterms:modified>
  <cp:revision>2</cp:revision>
  <dc:subject/>
  <dc:title>Repaso de español 5to</dc:title>
</cp:coreProperties>
</file>